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0C3D81-04CD-494D-BD08-B37794A2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out of the 100 and the bridg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eachers from MS and ES levels – PE, Art, Music, Technology, Family and Consum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presentation relate to them and every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 – we are taking action – we have talked and develop our understandings about grading and assessment at the secondary level – you have discussed in your departments – now it is time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DDE069-6B15-418F-A18F-E623A720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42FF51-1C0F-4B3E-BFE0-76F4306AF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80F710-CD38-49A7-A01E-E60F2903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0D49C7-05B0-4201-BBC9-8B1778B1A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83A221-C4A8-4592-B001-8E2367E9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86CD95-7422-4D21-BC55-620C1882C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4190A3-B09E-4221-A069-2CBED8C9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197E8E-AEB8-42C2-89C6-62D73D55A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 – we are taking action – we have talked and develop our understandings about grading and assessment at the secondary level – you have discussed in your departments – now it is time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community of learners rather than P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about credit acquisition and success in classes – later in the presentaion Benito will review the FSS SMART goals that relates to the four year grad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redit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achers follow the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 to the special area teachers – every credit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38A-5622-40A0-8DE7-BDD922C9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471-48C5-41F9-B54D-1625026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F68-B7E7-434F-BC78-91296189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80C-C80E-4721-B6C2-2B05FE4E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672-074F-4C8E-9FE2-FF94C2F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055-927D-4240-96B7-0428DAD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45C-3409-4D83-9BA5-8DC55DD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4DA-1A21-484F-9342-39FE115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AE6-3CC9-42D5-BBE4-B2E6FA9D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820-7934-40EC-8292-A1CFBEB6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30F-7F5C-4891-A221-BD92B99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CB2-71C0-4D8C-8C17-663279BE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7C1-6FDF-41EC-AAD4-D64497B0E2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FF5-F726-4425-BA57-164D93E21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Central School Distri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Making the GRADE</a:t>
            </a:r>
            <a:br>
              <a:rPr sz="4800"/>
            </a:b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2009-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B05C2-55C1-446A-9723-BA50B180CC42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Times New Roman"/>
              </a:rPr>
              <a:t>Prog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evidenc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 demonstrate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 course expec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A505B-963D-4D65-90BC-BA83E2B899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cesses necessary to achieve the course expec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CDB16-3181-4F46-AB3A-3088CA2F6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grad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duct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If so, how can you determine the value of the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11512-8382-4356-B9D1-72BD18BC53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705040" cy="36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9C09B-43D8-435A-85D2-31F7A4D094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Fieldstone Secondary School</a:t>
            </a:r>
            <a:br>
              <a:rPr sz="4400"/>
            </a:b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SMART Goals</a:t>
            </a:r>
            <a:br>
              <a:rPr sz="4400"/>
            </a:b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2009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rease the percentag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th grade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ssing all courses by 6 percentage points from 74% in June 2008-2009 to 80% in the 2009-2010 school year, and from 81% in August 2009 to 87% by August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F5E73-0D03-46C5-89DB-38DB3BE011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empus Sans ITC"/>
              </a:rPr>
              <a:t>FSS – 2010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empus Sans ITC"/>
              </a:rPr>
              <a:t>Gra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219320"/>
          <a:ext cx="8381880" cy="49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7985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0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6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7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7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5FB87-8253-4E05-A8C7-22E70BF5B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empus Sans ITC"/>
              </a:rPr>
              <a:t>FSS – 2010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empus Sans ITC"/>
              </a:rPr>
              <a:t>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143000"/>
          <a:ext cx="8381880" cy="49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7985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7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6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75C3D-F48A-4C73-B1D1-5BF1B71CE0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NRHS – 2010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Grade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752480"/>
          <a:ext cx="8381880" cy="49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7985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55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6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21FC4-C209-43E9-B330-EFB087F31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NRHS – 2010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Grade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01800"/>
          <a:ext cx="8534520" cy="5056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6280"/>
                <a:gridCol w="1646280"/>
                <a:gridCol w="194940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46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 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7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69B07-32B5-4EDD-B8C6-2C894CD98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NRHS 2010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Grade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600200"/>
          <a:ext cx="8382240" cy="5483160"/>
        </p:xfrm>
        <a:graphic>
          <a:graphicData uri="http://schemas.openxmlformats.org/drawingml/2006/table">
            <a:tbl>
              <a:tblPr/>
              <a:tblGrid>
                <a:gridCol w="1632240"/>
                <a:gridCol w="1630080"/>
                <a:gridCol w="1632240"/>
                <a:gridCol w="1631880"/>
                <a:gridCol w="1855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4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4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4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7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7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4CA09-45C1-4DB3-AD79-1977E26681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6200" y="2030400"/>
            <a:ext cx="5257800" cy="4827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Staff Development Da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May 10, 2010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Tempus Sans ITC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5181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en-US" sz="3600" spc="-1" strike="noStrike">
                <a:solidFill>
                  <a:srgbClr val="008000"/>
                </a:solidFill>
                <a:latin typeface="Tempus Sans ITC"/>
              </a:rPr>
              <a:t>Faculty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Grading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Finish Strong: Graduation Rate and Clas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Department Meet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Lunch: 11:30 AM – 12:4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3200400"/>
            <a:ext cx="190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NRH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F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8:30 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3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D7ED9-8E62-4C9A-B453-F8016079AB2E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empus Sans ITC"/>
              </a:rPr>
              <a:t>Team Work Session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ction Step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urse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ist fourth quarter course expectations and major requirements for th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view list of students who have failed one sub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o be provided by coordinato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dentify and list students who have failed you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can these students achieve your course expectation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us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lete status report on each student.  Will the student finish the course in: June 2010, Summer School or repeat nex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4D58C-F0EE-4201-B4C6-5C7BDEFA0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ourse 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fourth quarter course expectations and major requirements for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3B889-4949-4F2C-A020-EE66CD938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list of students who have failed one subject.  Identify students who have failed your cour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24610-FE5D-4996-A5C4-A31F63907A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Action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these students achieve your course expect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032DD-403C-4725-9736-C0FD9F300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Status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tatus report on each student.  Will the student finish the course in: June 2010, Summer School or repeat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1B1C4-3693-4790-B3BF-E04C748033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taff Development Day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May 10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do we assess student work in regards to our course expectation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How do you grade student work in your course/class? What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 have in place to lead students towards ou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How do your assessments and grading practices assist students in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rogr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ward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create action plans on assessment practices by course in preparation for the 2010-2011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Prog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69DE7-2D2C-48C4-ADC5-D4EE51306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Rounded Rectangle 7"/>
          <p:cNvGrpSpPr/>
          <p:nvPr/>
        </p:nvGrpSpPr>
        <p:grpSpPr>
          <a:xfrm>
            <a:off x="762120" y="1335240"/>
            <a:ext cx="7238520" cy="5522760"/>
            <a:chOff x="762120" y="1335240"/>
            <a:chExt cx="7238520" cy="5522760"/>
          </a:xfrm>
        </p:grpSpPr>
        <p:pic>
          <p:nvPicPr>
            <p:cNvPr id="10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762120" y="1335240"/>
              <a:ext cx="7238520" cy="55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101960" y="1619280"/>
              <a:ext cx="6555240" cy="49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Title 1"/>
          <p:cNvGrpSpPr/>
          <p:nvPr/>
        </p:nvGrpSpPr>
        <p:grpSpPr>
          <a:xfrm>
            <a:off x="603360" y="146160"/>
            <a:ext cx="7785000" cy="1000080"/>
            <a:chOff x="603360" y="146160"/>
            <a:chExt cx="7785000" cy="1000080"/>
          </a:xfrm>
        </p:grpSpPr>
        <p:pic>
          <p:nvPicPr>
            <p:cNvPr id="110" name="Title 1" descr=""/>
            <p:cNvPicPr/>
            <p:nvPr/>
          </p:nvPicPr>
          <p:blipFill>
            <a:blip r:embed="rId3"/>
            <a:stretch/>
          </p:blipFill>
          <p:spPr>
            <a:xfrm>
              <a:off x="603360" y="146160"/>
              <a:ext cx="7785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9480" y="152280"/>
              <a:ext cx="7772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Teaching and Learning Framework</a:t>
              </a:r>
              <a:br>
                <a:rPr sz="3200"/>
              </a:b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rth Rockland Central School Distric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br>
                <a:rPr sz="40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3"/>
          <p:cNvSpPr/>
          <p:nvPr/>
        </p:nvSpPr>
        <p:spPr>
          <a:xfrm>
            <a:off x="1905120" y="2057400"/>
            <a:ext cx="2286000" cy="2514600"/>
          </a:xfrm>
          <a:prstGeom prst="ellipse">
            <a:avLst/>
          </a:prstGeom>
          <a:solidFill>
            <a:srgbClr val="f9220b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4114800" y="2057400"/>
            <a:ext cx="2286000" cy="2514600"/>
          </a:xfrm>
          <a:prstGeom prst="ellipse">
            <a:avLst/>
          </a:prstGeom>
          <a:solidFill>
            <a:srgbClr val="ccffff">
              <a:alpha val="5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124080" y="3733920"/>
            <a:ext cx="2286000" cy="2361960"/>
          </a:xfrm>
          <a:prstGeom prst="ellipse">
            <a:avLst/>
          </a:prstGeom>
          <a:solidFill>
            <a:srgbClr val="00b050">
              <a:alpha val="5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8" descr=""/>
          <p:cNvPicPr/>
          <p:nvPr/>
        </p:nvPicPr>
        <p:blipFill>
          <a:blip r:embed="rId4"/>
          <a:stretch/>
        </p:blipFill>
        <p:spPr>
          <a:xfrm>
            <a:off x="3048120" y="1371600"/>
            <a:ext cx="274320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9" descr=""/>
          <p:cNvPicPr/>
          <p:nvPr/>
        </p:nvPicPr>
        <p:blipFill>
          <a:blip r:embed="rId5"/>
          <a:stretch/>
        </p:blipFill>
        <p:spPr>
          <a:xfrm>
            <a:off x="1143000" y="2286000"/>
            <a:ext cx="749160" cy="304812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10" descr=""/>
          <p:cNvPicPr/>
          <p:nvPr/>
        </p:nvPicPr>
        <p:blipFill>
          <a:blip r:embed="rId6"/>
          <a:stretch/>
        </p:blipFill>
        <p:spPr>
          <a:xfrm>
            <a:off x="6172200" y="2438280"/>
            <a:ext cx="137160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11" descr=""/>
          <p:cNvPicPr/>
          <p:nvPr/>
        </p:nvPicPr>
        <p:blipFill>
          <a:blip r:embed="rId7"/>
          <a:stretch/>
        </p:blipFill>
        <p:spPr>
          <a:xfrm>
            <a:off x="2209680" y="5562720"/>
            <a:ext cx="4496040" cy="1239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2133720" y="2296800"/>
            <a:ext cx="175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  <a:hlinkClick r:id="rId8" action="ppaction://hlinksldjump"/>
              </a:rPr>
              <a:t>Academic Excell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4419720" y="2296800"/>
            <a:ext cx="175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  <a:hlinkClick r:id="rId9" action="ppaction://hlinksldjump"/>
              </a:rPr>
              <a:t>Developmental Responsive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3429000" y="4772880"/>
            <a:ext cx="175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3809880" y="3576600"/>
            <a:ext cx="129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905120" y="31233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erentiated   Instruction &amp; Multiple Measures of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1981080" y="26661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gor &amp; Relevance for the 2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en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876920" y="27432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4876920" y="3124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3581280" y="49521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 and Time &amp; Opportunity to Lea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3505320" y="548568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fet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ilience &amp;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666880"/>
            <a:ext cx="1828800" cy="2057400"/>
          </a:xfrm>
          <a:prstGeom prst="ellipse">
            <a:avLst/>
          </a:prstGeom>
          <a:solidFill>
            <a:srgbClr val="fff6d1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895480"/>
            <a:ext cx="1676520" cy="27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0fd"/>
                </a:solidFill>
                <a:latin typeface="Comic Sans MS"/>
              </a:rPr>
              <a:t>KEY RESULTS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0fd"/>
                </a:solidFill>
                <a:latin typeface="Comic Sans MS"/>
              </a:rPr>
              <a:t>NRCSD STUDENTS</a:t>
            </a: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Graduates Demonstrate Skills and Abi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for Succes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Effective Communic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Problem Sol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Critical Thin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Mutual Self-Resp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Lifelong Lear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5B8C8-1BD6-4879-8824-4530E9FD8642}" type="datetime1">
              <a:rPr lang="en-US"/>
              <a:t>07/30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cademic Excell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gor in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intain high expectations for all students and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gage students in higher order tasks requiring critical th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ptivate students with challenging academic cont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monstrate student proficiency and reach for mastery of all academic content and 21st century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vance in the 21st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mphasize the importance of addressing essential questions in all content areas at all grade levels to help students solve complex real world problems and be able to contribute to a global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tiated Instruction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vide all students with opportunities for academic suc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mote student ownership of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ign flexible learning environments and varied methods of instruction that address student needs as they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e Measures of Learning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a variety of assessment tools that inform instruction and monitor student achie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ze data to personalize and guide student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 students as partners in developing and assessing the learning proc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320" y="6172200"/>
            <a:ext cx="1828800" cy="609480"/>
          </a:xfrm>
          <a:prstGeom prst="ellipse">
            <a:avLst/>
          </a:prstGeom>
          <a:solidFill>
            <a:srgbClr val="b9cde5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2819520" y="6172200"/>
            <a:ext cx="1828800" cy="609480"/>
          </a:xfrm>
          <a:prstGeom prst="ellipse">
            <a:avLst/>
          </a:prstGeom>
          <a:solidFill>
            <a:srgbClr val="00b05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al Respons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5486400" y="6172200"/>
            <a:ext cx="1828800" cy="609480"/>
          </a:xfrm>
          <a:prstGeom prst="ellipse">
            <a:avLst/>
          </a:prstGeom>
          <a:solidFill>
            <a:srgbClr val="ff9900">
              <a:alpha val="83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TandL.jpg">
            <a:hlinkClick r:id="" action="ppaction://hlinkshowjump?jump=firstslide"/>
          </p:cNvPr>
          <p:cNvPicPr/>
          <p:nvPr/>
        </p:nvPicPr>
        <p:blipFill>
          <a:blip r:embed="rId16"/>
          <a:stretch/>
        </p:blipFill>
        <p:spPr>
          <a:xfrm>
            <a:off x="8077320" y="6095880"/>
            <a:ext cx="726840" cy="6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33EC7-BBCC-44F4-AEB9-840DD53764C2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evelopmental Responsiv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commitment of North Rockland Central School District i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uild and strengthen positive relationships amongst students, parents and staff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velop relationships that are grounded in loyalty and shared educational valu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mote learning communities which foster academic achievement and create socially responsible learn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rth Rockland CSD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ld clear, positive expectations for students’ academic and social succ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pport student transitions through clear, current and consistent communication and decision-making informed by multiple sources of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52280" y="6172200"/>
            <a:ext cx="1828800" cy="609480"/>
          </a:xfrm>
          <a:prstGeom prst="ellipse">
            <a:avLst/>
          </a:prstGeom>
          <a:solidFill>
            <a:srgbClr val="b9cde5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895480" y="6172200"/>
            <a:ext cx="1828800" cy="609480"/>
          </a:xfrm>
          <a:prstGeom prst="ellipse">
            <a:avLst/>
          </a:prstGeom>
          <a:solidFill>
            <a:srgbClr val="00b05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al Respons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562720" y="6172200"/>
            <a:ext cx="1828800" cy="609480"/>
          </a:xfrm>
          <a:prstGeom prst="ellipse">
            <a:avLst/>
          </a:prstGeom>
          <a:solidFill>
            <a:srgbClr val="ff9900">
              <a:alpha val="83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TandL.jpg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8077320" y="6095880"/>
            <a:ext cx="726840" cy="6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A65B3-CC85-4F56-BC88-00F1B7B7FB41}" type="datetime1">
              <a:rPr lang="en-US"/>
              <a:t>07/30/26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ocial Eq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ccess and Time &amp; Opportunity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ovide all stud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qual access to a well-prepared,  qualified staff committed to NRCSD’s mission and go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 rich learning environment that includes standards-based instru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ime and opportunity to learn through academic and social-emotional interventions and accel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eadership and recognition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ploratory programs, sports, clubs and enrichment activ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Safety, Resilience &amp; Health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ovide all stud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 fair, safe, healthy and engaging environ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 school/staff that utilizes a positive discipline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ivic and character edu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ccess to adult mentors and counse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ccess to school and community health and social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52280" y="6172200"/>
            <a:ext cx="1828800" cy="609480"/>
          </a:xfrm>
          <a:prstGeom prst="ellipse">
            <a:avLst/>
          </a:prstGeom>
          <a:solidFill>
            <a:srgbClr val="b9cde5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2895480" y="6172200"/>
            <a:ext cx="1828800" cy="609480"/>
          </a:xfrm>
          <a:prstGeom prst="ellipse">
            <a:avLst/>
          </a:prstGeom>
          <a:solidFill>
            <a:srgbClr val="00b05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al Respons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5562720" y="6172200"/>
            <a:ext cx="1828800" cy="609480"/>
          </a:xfrm>
          <a:prstGeom prst="ellipse">
            <a:avLst/>
          </a:prstGeom>
          <a:solidFill>
            <a:srgbClr val="ff9900">
              <a:alpha val="83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TandL.jpg">
            <a:hlinkClick r:id="" action="ppaction://hlinkshowjump?jump=firstslide"/>
          </p:cNvPr>
          <p:cNvPicPr/>
          <p:nvPr/>
        </p:nvPicPr>
        <p:blipFill>
          <a:blip r:embed="rId14"/>
          <a:stretch/>
        </p:blipFill>
        <p:spPr>
          <a:xfrm>
            <a:off x="8077320" y="6095880"/>
            <a:ext cx="726840" cy="6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8E0DC-86C1-4E9B-8763-2CF5278B1063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Grades: How things have chang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59840" cy="51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96B4A-E8AB-4E4D-8C00-F0E9C2856F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PDPT Surv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cess the surv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should log into eChalk, onc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mail inbox, click on the "My School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 on the left, scroll down to find the lin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ve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RCSD Interests/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v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2E426-34EC-4E19-A93E-633CFB673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705040" cy="36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B3B2F-FFA9-4546-A764-9EB32A9C1A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taff Development Day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May 10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do we assess student work in regards to our course expectation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How do you grade student work in your course/class? What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 have in place to lead students towards ou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How do your assessments and grading practices assist students in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rogr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ward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create action plans on assessment practices by course in preparation for the 2010-2011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Prog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58222-37F0-46F8-8C90-FDE2D67761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NR Community of Lear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ree Critic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lose the g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01049-8A72-4971-946C-FE28DE0158F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North Rockland High School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SMART Goals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2009-2010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“Better Students, Better Citizen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A. Graduation Rates – update with August graduates and revis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To improve the graduation for all students by 6 percentage point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82%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for the 2009 graduating class to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88%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or the 2010 graduating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5E53B-9375-4FE4-905A-9F7B171811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631800"/>
          <a:ext cx="769608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31800"/>
                    <a:ext cx="76960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2C8F2-F5D9-4C35-8189-87E842284F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Course 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ig ideas/endur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s in a cou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326E4-3562-46E1-ADD3-A83A88A7DC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ro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idence of accomplishment will you collect from students and assess?  This will relate explicitly to the Course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82C4E-134E-4CC2-BC2E-8740EE347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0:15Z</dcterms:created>
  <dc:creator>North Rockland High School</dc:creator>
  <dc:description/>
  <dc:language>en-US</dc:language>
  <cp:lastModifiedBy>North Rockland High School</cp:lastModifiedBy>
  <dcterms:modified xsi:type="dcterms:W3CDTF">2010-05-10T13:32:16Z</dcterms:modified>
  <cp:revision>18</cp:revision>
  <dc:subject/>
  <dc:title>NRHS – 2008 Grade 10</dc:title>
</cp:coreProperties>
</file>